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5D8-7D7F-4F48-AF27-830E378F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869-0621-4CA9-976B-A3E17022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992-94B7-455D-AC7A-01A604BB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D21-75A9-48BD-B603-7048CC2B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546-8FB9-474B-86ED-AD31998C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A12-0336-4D41-B8C8-E60A7B31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EEF-A1F0-4282-A521-17B7CCD5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26A-47C8-44B3-9D50-1E7D4FF5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B38-D5D9-4527-97F1-F574EEB6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1CB-8CD5-4F6A-BDFB-7A5A300B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5A7-C456-4019-B7CE-EA636F37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D73-DE9A-4F4B-9500-6AB86F6D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D21F-0CDC-41A7-962C-E58A5BCB2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noun-Verb 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Grade 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noun-Verb 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esent-tense verb must agree with its subject when the subject is a noun.  It must also agree with its subject when the subject is a prono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the pronouns he, she, and it, add -s to most action verbs in the present t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he wa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us after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s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bench in the dug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t craw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fl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noun and Verb 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the pronouns I, we, you, and they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 not 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 to most action verbs in the present t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He, She,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Pronouns and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s to the action verbs if the subject i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, she, or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add -s to the action verbs if the subject i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, we, your, or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(get, gets) up ea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(eat, eats) breakfast 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(know, knows) the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(turn, turns) his head a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(cut, cuts) the paper with sciss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6:12:30Z</dcterms:created>
  <dc:creator>GCSD</dc:creator>
  <dc:description/>
  <dc:language>en-US</dc:language>
  <cp:lastModifiedBy>teacher</cp:lastModifiedBy>
  <dcterms:modified xsi:type="dcterms:W3CDTF">2011-02-07T01:14:05Z</dcterms:modified>
  <cp:revision>3</cp:revision>
  <dc:subject/>
  <dc:title>Pronoun-Verb Agreement</dc:title>
</cp:coreProperties>
</file>